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E4A6-B198-4E0D-9248-1AB721E83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88FB-4642-4A0D-B48A-F483F678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CE32-45F7-414F-96FA-3DC0F5149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B7ED-0C74-4A97-8ABD-0360105E3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8310-AF69-465A-A1DF-A08E8261A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132F-C475-4C3C-BD91-150A977E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ED2B-117D-4AE7-8490-0C5CB71A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4CAB-DB4A-46F1-BE0A-CDCDDFF9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02D9-915F-411D-BA98-D4F4EA05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6C2D-419B-4CE1-85BE-803A4C6E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5D2A-2679-4168-ABFF-B10C2184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1E01-0FAC-46D5-A0A6-7D13DCDA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76B6-7CDD-4F45-B187-7E349289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51564-80BD-4448-B995-A26D774C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7B6A8-0701-4E62-86E5-A407D6FC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8C52-1D57-4FD4-B3A7-6CBBEBBB6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17E7-CB75-4D85-980E-022E5EBA4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8104-69FA-41FC-B3D1-FA1D6511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A667-0C8B-4DE3-A649-9872F3ED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A5DA-505C-4B0E-B953-A3AF58A3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2975-5B5F-47CB-BE8C-2FB2E3CB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CD63-A592-4B92-91BE-90BA8DE0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5202-3701-4E42-8998-0B06F789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C4AF-6230-4DA9-9C0F-7E4479C2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174D-0DB9-44AA-BDD6-C238FDFE9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7751-75D5-43F3-9626-7B85D3C7D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google.com/webhp?hl=en" TargetMode="External"/><Relationship Id="rId2" Type="http://schemas.openxmlformats.org/officeDocument/2006/relationships/image" Target="../media/image9.png"/><Relationship Id="rId3" Type="http://schemas.openxmlformats.org/officeDocument/2006/relationships/hyperlink" Target="http://www.mikrotik.com/" TargetMode="Externa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55640" y="1197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Arial"/>
              </a:rPr>
              <a:t>Ruteo Dinámic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exiones de red redundantes por falla y balanceo de cargas de flujo de trafico usando OSPF y BG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on de OS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042920" y="1347840"/>
            <a:ext cx="6912000" cy="55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D del Router OS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D del Router ID debe ser unico dentro del sistema autonomo (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D del Router ID puede ser dejado como 0.0.0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rección IP mas grande asignada al 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eado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será us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uta default de OS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je la ruta ‘Distribute default’ de manera ‘never’, a menos que sea esto un ASB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routing osp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t distribute-default=as-type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distribución de rutas OS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ctive ‘redistribute connected routes [y static routes]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routing osp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t redistribute-connected=as-type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t redistribute-static=as-type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tu usas RIP o BGP, quizás quieres redistribuir rutas aprendidas por esos protoco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umeración de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Áreas son definidas con números de 32 bits en formato de dirección 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0.0.0.0 esta reservado por el área de back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odas las áreas deben estar conectadas al área  0.0.0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figu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 baj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routing ospf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d name=internal1 area-id=0.0.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l Á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7056360" cy="528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des OSPF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icione redes para especificar interfaces donde tu necesitas corriendo OSPF y el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direcciones de reddeberan incluir la direccion de la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routing ospf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d network=10.1.0.0/24 area=backb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ta! Para direcciones punto a punto, la red debe tener dirección remota del enlace con mascara de 32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des OSPF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058160" cy="524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Interfase OSPF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es necesario, active costo de Interfas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routing ospf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d interface=eth4-rout8 cost=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547640" y="3284640"/>
            <a:ext cx="5977080" cy="301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Interface OSPF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cambie nada en configuración avanzada, a menos que realmente sepa usted QUE ESTA HACIENDO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403280" y="2924280"/>
            <a:ext cx="6265800" cy="320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otocolos de ruteo dinám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outerOS de MikroTik sopor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pen Shortest Path First (OSPF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outing Information Protocol (RIP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order Gateway Protocol (BGP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outerOS NO Sopor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ior Gateway Routing Protocol (IGRP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hanced Interior Gateway Routing Protocol (Enhanced IGRP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Vecinos OS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routing ospf neighbor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uestra los vecinos OSPF incluyendo este mismo rute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332000" y="2637000"/>
            <a:ext cx="6408720" cy="404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ado de veci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ado de vecinos (Neighbor state) muestra el estatus de la red OSP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ull: bases de datos de “estado de enlaces” estan completamente sincroniz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-Way: Comunicacion bidireccional establec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own, Attempt, Init, Loading, ExStart, Exchange: mmm, no esta funcionando adecuadamente, lea la documentació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utas OSPF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/ip route pr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O: Ruta invalida conectada añadida por OSPF muestra que OSPF esta corriendo en dicha interf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utas multiples del mismo costo tienen una direccion destino y gateways separados por ‘,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utas OSPF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453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um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nual de MikroTik Rout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ocumentacion en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Go to Google Hom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3789360"/>
            <a:ext cx="2663640" cy="9763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0360" y="1341360"/>
            <a:ext cx="1727280" cy="172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boratorio de configuración OS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ga u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ystem reset a sus equip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dicione direcciones a su rutead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ublica 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cal 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figure OSPF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distribuir rutas estáticas y conect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rra OSPF sobre la interfase Pub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hecando status de OS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antos vecinos OSPF ves? 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antos vecinos están en ‘full’ state? 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cibiste la ruta de default? 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antas rutas OSPF han sido instaladas? 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parando OS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heque los vecinos MikroT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p neighbor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heque los vecinos OSP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routing ospf neighbor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heque ru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p route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heque 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log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ogs de OS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gs de OSPF muestran información que cambia entre los ruteado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log print without-pa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figúrelo OFF después de que ospf esta configurado y corrie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system logging fac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t OSPF-Info local=n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spaldo OS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2890800" cy="15908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419640" y="1844640"/>
            <a:ext cx="1441440" cy="50472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teador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651640" y="1844640"/>
            <a:ext cx="1441440" cy="50472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teador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"/>
          <p:cNvCxnSpPr>
            <a:stCxn id="285" idx="3"/>
            <a:endCxn id="287" idx="5"/>
          </p:cNvCxnSpPr>
          <p:nvPr/>
        </p:nvCxnSpPr>
        <p:spPr>
          <a:xfrm flipH="1">
            <a:off x="4860360" y="2349000"/>
            <a:ext cx="1448280" cy="1701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8" name=""/>
          <p:cNvCxnSpPr>
            <a:stCxn id="284" idx="3"/>
            <a:endCxn id="287" idx="1"/>
          </p:cNvCxnSpPr>
          <p:nvPr/>
        </p:nvCxnSpPr>
        <p:spPr>
          <a:xfrm>
            <a:off x="4076280" y="2349000"/>
            <a:ext cx="1080" cy="1639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9" name=""/>
          <p:cNvCxnSpPr>
            <a:stCxn id="285" idx="2"/>
            <a:endCxn id="284" idx="4"/>
          </p:cNvCxnSpPr>
          <p:nvPr/>
        </p:nvCxnSpPr>
        <p:spPr>
          <a:xfrm flipH="1">
            <a:off x="4733280" y="2160360"/>
            <a:ext cx="918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2627280" y="4292640"/>
            <a:ext cx="2876760" cy="17352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547640" y="15573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708360" y="4941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19640" y="3860640"/>
            <a:ext cx="1441440" cy="50508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teador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59280" y="4437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lan1 10.1.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835280" y="3429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ther1 10.0.1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003640" y="378936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lan2 10.0.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84720" y="2492280"/>
            <a:ext cx="11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0.0.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211640" y="141300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0.0.3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580000" y="141300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0.0.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43280" y="249228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0.0.1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or que usar ruteo dinámic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uteo dinámico puede ser usado pa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tribución automática de información de ruteo, al contrario de lo que se tiene usando ruteo estátic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cer conexiones de red redundant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lanceo de carga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ndo el ruteador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ctive el ruteador para distribuir la ruta de default y redistribuir las rutas conectad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routing osp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tribute-default=always-as-type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distribute-connected=as-type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figure OSPF para correr en las 2 interfaces loca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routing ospf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d network 10.0.0.0/16 area=back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ndo Ruteadores B y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ctive los ruteadores para redistribuir rutas conectad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routing osp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distribute-connected=as-type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figure OSPF para correr en todas las interf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routing ospf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d network 10.0.0.0/8 area=back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onitoreando el respal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nitoree el enlace p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ando las ips externas del ruteador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ire el enlace A-B desconectando el cable ethern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antos segundos se requieren para que la ruta cambie a través del ruteador 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o hacer que el enlace sobre el ruteador C sea el primari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lternativas para respaldo de OS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e Netwatch para ejecutar scripts que hagan cambios de rut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ga bridge usando túneles de EoIP o W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gerencia: Cuando configure el Bridg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ctive el Spanning Tree Protocol (STP) para prevenir loop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e el argumento de costo de puerto para activar elcamino ‘preferido’ a ser us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Vistazo a BG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Border Gateway Protocol (BGP) es un protocolo de ruteo inter-autono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uso primario de BGP’s es para intercambiar informacion de ‘reachibilidad’ con otros sistemas BG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ikroTik RouterOS implementa BGP Version 4 (RFC 177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BG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835280" y="3860640"/>
            <a:ext cx="5400720" cy="1944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65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340000" y="3500280"/>
            <a:ext cx="1584360" cy="576360"/>
          </a:xfrm>
          <a:prstGeom prst="cube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B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003640" y="3500280"/>
            <a:ext cx="1584360" cy="576360"/>
          </a:xfrm>
          <a:prstGeom prst="cube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B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11280" y="1701720"/>
            <a:ext cx="3168720" cy="1006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65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835280" y="2421000"/>
            <a:ext cx="1584360" cy="576360"/>
          </a:xfrm>
          <a:prstGeom prst="cube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e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932360" y="1700280"/>
            <a:ext cx="3168720" cy="1006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65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580000" y="2421000"/>
            <a:ext cx="1584360" cy="576360"/>
          </a:xfrm>
          <a:prstGeom prst="cube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e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"/>
          <p:cNvCxnSpPr>
            <a:stCxn id="315" idx="3"/>
            <a:endCxn id="312" idx="0"/>
          </p:cNvCxnSpPr>
          <p:nvPr/>
        </p:nvCxnSpPr>
        <p:spPr>
          <a:xfrm>
            <a:off x="2555640" y="2997000"/>
            <a:ext cx="648360" cy="5036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19" name=""/>
          <p:cNvCxnSpPr>
            <a:stCxn id="317" idx="3"/>
            <a:endCxn id="313" idx="0"/>
          </p:cNvCxnSpPr>
          <p:nvPr/>
        </p:nvCxnSpPr>
        <p:spPr>
          <a:xfrm flipH="1">
            <a:off x="5866920" y="2997000"/>
            <a:ext cx="434160" cy="5036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BG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pecifique el numero de AS de tu ruteador BGP y habilite BG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routing bg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t as=65000 enabled=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s especificar aqui cuantas rutas de este ruteador deberán ser redistribu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572000" y="1557360"/>
            <a:ext cx="4572000" cy="434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la red BG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posible especificar redes las cuales deberan ser advertised disregarding actual route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0.0.0.0/0 significa advertising la ruta de defau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4643280" y="1557360"/>
            <a:ext cx="4500720" cy="426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l Pe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pecifique el Peer de BGP con el cual usted quiere intercambiar la información de rute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er1 for ASBR1, Peer2 for ASBR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GP intercambiara información de ruteo solamente si puede establecer una conexión de TCP a su pe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rto TCP 179 debe estar abierto en el fire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uedes añadir tantos peers como sea requer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eers BG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688000" cy="500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onde usar ruteo dinami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IP y/o OSPF usado dentro de sistemas autónomos (AS) típicamente dentro de tu propia red donde tienes control total de e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GP usado entre sistemas autóno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rgumentos específicos del Pe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ultihop ‘yes’, si el peer no esta dentro de la misma red ejemplo, si ruteo estático o dinámico es usado para conectarse a 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oute Reflect ‘yes’, si el peer pertenece a tu AS y quieres redistribuir rutas aprendidas por 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fix List In y Out para controlar la redistribucion de ru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tatus del Peer BG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1952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mplo de status de pe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umero de rutas recibidas es 2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do del peer es “connected”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3419640" y="1413000"/>
            <a:ext cx="5724360" cy="4359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ista Prefijo (prefi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istas Prefijo son usadas por RIP y BGP para controlar anuncios de control de rutas hacia otros ruteadores y filtrar rutas recibidas desde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da Lis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fijo tiene un nombre y una acción de default para la l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acción de default es usada para rut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ue no cumplen ninguna regla de la l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dicionando Listas de prefij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5185080" cy="488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glas de las listas de prefij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fix es prefijo de red a concor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ngitud del Prefix Length es la longitud del prefix en 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spués de cambiar las reglas de lista de prefix, conexión al peer relevante deberá ser re-iniciada para que se puedan usar las nuevas reglas, por ejemplo, remover y añadir el pe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s de pref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57200" y="1773360"/>
          <a:ext cx="8229600" cy="3108240"/>
        </p:xfrm>
        <a:graphic>
          <a:graphicData uri="http://schemas.openxmlformats.org/drawingml/2006/table">
            <a:tbl>
              <a:tblPr/>
              <a:tblGrid>
                <a:gridCol w="2743200"/>
                <a:gridCol w="1371600"/>
                <a:gridCol w="4114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ijo (Prefi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 De Pre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mplo de destinos concordan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.0.0/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.0.0/0 (default dest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.0.0/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alquier desti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.0.0/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-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.4.0/17;10.5.0.0/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4.0.0/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5.0.0/16;10.7.0.0/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 de listas de pref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10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uta default 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das las rutas 10. Son rechazadas, si la mascara de red es mayor que 16 b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rutas 10.4-7 son aceptadas si la mascara no es mas larga que 16 b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3708360" y="1557360"/>
            <a:ext cx="5435640" cy="431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guntas del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ando usar BGP y cuando OSPF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uede un ruteador pertenecer a 2 diferentes areas de OSPF con ID’s de area 0.0.0.5 y 0.0.0.6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a parar re recibir rutas de red 10. Desde el peer BGP, la lista de prefix de la regla IN deberá 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fix_____________, longitud de prefix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Que es OSP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pen Shortest Path First (OSPF) es un protocolo de “estado-del-enlace” que toma cuidado de las rutas en una estructura de red dinámica que puede emplear diferentes caminos hacia sus subre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SPF es mas eficiente y escalable que R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mbos, RIP y OSPF son usados dentro de sistemas autonomos (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uando usar OSP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 redistribuir rutas e inyectar la ruta de default dentro del áre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 hacer links de respaldo, si tu controlas los ruteadores a ambos lados del/los enl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95280" y="1341360"/>
            <a:ext cx="8569440" cy="4896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reas y ruteadores OS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788000" y="3716280"/>
            <a:ext cx="4038480" cy="24638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11280" y="3789360"/>
            <a:ext cx="3582720" cy="21859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843280" y="1557360"/>
            <a:ext cx="3585960" cy="2187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140360" y="234936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979640" y="472428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72360" y="465300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3357720"/>
            <a:ext cx="1584360" cy="57600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11640" y="1413000"/>
            <a:ext cx="1584360" cy="576000"/>
          </a:xfrm>
          <a:prstGeom prst="cube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292720" y="3429000"/>
            <a:ext cx="1584360" cy="57636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26920" y="1989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ipos de ruteadores OS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eador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Internos (dentro de un ar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eador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del backbone (dentro del area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eador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de área de frontera (Area border routers) (AB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ABR se posiciona entre 2 o mas área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be tocar el área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utonomous system boundary routers (ASB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istribuyen información de ruteo entre OSPF y otros protocolos de rut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SPF en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kroTik RouterOS implementa OSPF Version 2 (RFC 232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paquete routing debe ser instal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heca con “/system package pri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no esta instalado, sube el paquete de la misma versión del 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eado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‘routing-2.x.x.npk’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ici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l 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e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SPF usa protocolo 89 para comunicarse con sus vecinos, asegúrese que la cadena input del firewall no lo filt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4:59:14Z</dcterms:created>
  <dc:creator>Arnis</dc:creator>
  <dc:description/>
  <dc:language>en-US</dc:language>
  <cp:lastModifiedBy>Alfonso Urbina Araux</cp:lastModifiedBy>
  <dcterms:modified xsi:type="dcterms:W3CDTF">2005-06-18T01:19:23Z</dcterms:modified>
  <cp:revision>60</cp:revision>
  <dc:subject/>
  <dc:title>OSPF Configuration</dc:title>
</cp:coreProperties>
</file>